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D80DA-F5A4-4722-86FE-A9A012B955B1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587600" y="100656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ekmuk Batang"/>
              </a:rPr>
              <a:t>Time of occurrence of remembered motor elements (n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ekmuk Batang"/>
              </a:rPr>
              <a:t>IF THIS IMAGE HAS BEEN PROVIDED BY OR IS OWNED BY A THIRD PARTY, AS INDICATED IN THE CAPTION LINE, THEN FURTHER PERMISSION MAY BE NEEDED BEFORE ANY FURTHER USE. PLEASE CONTACT WILEY'S PERMISSIONS DEPARTMENT ON PERMISSIONS@WILEY.COM OR USE THE RIGHTSLINK SERVICE BY CLICKING ON THE 'REQUEST PERMISSIONS' LINK ACCOMPANYING THIS ARTICLE. WILEY OR AUTHOR OWNED IMAGES MAY BE USED FOR NON-COMMERCIAL PURPOSES, SUBJECT TO PROPER CITATION OF THE ARTICLE, AUTHOR, AND PUBLIS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solidFill>
            <a:srgbClr val="005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4360" cy="1198440"/>
          </a:xfrm>
          <a:prstGeom prst="rect">
            <a:avLst/>
          </a:prstGeom>
          <a:solidFill>
            <a:srgbClr val="ffce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52280"/>
            <a:ext cx="7199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ch seizure elements do patients memorize? A comparison of history and seizure docu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0360" y="5940360"/>
            <a:ext cx="864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54a6"/>
                </a:solidFill>
                <a:latin typeface="Arial"/>
              </a:rPr>
              <a:t>Epilepsia, Volume: 61, Issue: 7, Pages: 1365-1375, First published: 09 June 2020, DOI: (10.1111/epi.1655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8280" y="762120"/>
            <a:ext cx="55800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